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3E49-7C90-4BA7-AB09-88F8A899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A4A7-3C32-409D-97D5-3548C8B4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8C4-7D52-4AE4-88E5-D966A684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8E5-52E0-40F1-9997-9C1D3E30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118-FC97-467F-A5FD-D348034E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3C5-CB15-46E8-8B45-9C28E8B4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C7A-6CA1-4F21-8A02-1B98853E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456-4474-465A-82CA-F12774B0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C0FB-DC22-4FA7-AB88-969402E6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104B-771F-4B9D-ACFD-965C9E29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708-C9D0-49B2-BDA9-CF5E12CD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F51A-C371-4996-A795-39C2D5B4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3A4A-0962-4551-8A95-033BA1026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99 Mám srdce plné rados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Mám srdce plné rad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a deň sa teším Pánov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že smiem sa z Božej mil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nes sýtiť nebies mann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plný požehnania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opäť sa k 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tvoriteľ skláňa k 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nes, v 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lný 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hnania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sobotný nám zvest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e v tomto dare z raj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h svoju lásku zjav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Tvorcu s Tvorstvom spáj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plný požehnania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opäť sa k 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tvoriteľ skláňa k 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nes, v 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lný 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hnania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po práci nás Boží hl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ve k odpočinku znova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P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án v dome svojom v svätý čas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 nás má pokrm Slo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plný požehnania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opäť sa k 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tvoriteľ skláňa k 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nes, v 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lný 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hnania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 tom tvojom Slove, Pane n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je živej vody prameň;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y, ktorý srdcia naše zná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ím smäd po tebe za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plný požehnania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opäť sa k 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tvoriteľ skláňa k 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nes, v 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lný 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hnani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9:30:20Z</dcterms:modified>
  <cp:revision>22</cp:revision>
  <dc:subject/>
  <dc:title>Je veľký náš Pán, on slávy je Kráľ Nech do všetkých strán  spev vrúcnych znie chvál.</dc:title>
</cp:coreProperties>
</file>